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13A-F018-458C-91E6-E6108831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1D3-58CB-43B9-94EA-B0B3230D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7A9-2E09-43F1-B1A3-A87B394A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AB3-FEAD-4A3A-8F5C-A5C1726C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342-2E0F-444C-94AF-F350EE72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580-3E1E-4277-807C-68815134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68B-4F01-4098-B0EF-C940D2C8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6F0-003E-4BF4-9A8A-AF1E44C5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F8E-7AB4-4C74-A052-33769E25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B81-04E2-4097-8C2D-27F059E7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DEE-E27F-4839-9AA9-D1562463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DF3-0000-4DF0-AABB-0A51D8FB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E7FB-AAEA-4FB9-ACF9-C18E2560C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057400"/>
            <a:ext cx="6248520" cy="764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267080" y="228600"/>
            <a:ext cx="175284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160020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5486400"/>
            <a:ext cx="236232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rish ji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3733920"/>
            <a:ext cx="18288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re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3886200"/>
            <a:ext cx="129528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410080"/>
            <a:ext cx="190512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295280" cy="64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429000"/>
            <a:ext cx="2057400" cy="64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gpi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371600"/>
            <a:ext cx="297180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ned be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295280"/>
            <a:ext cx="1828800" cy="64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2133720"/>
            <a:ext cx="1905120" cy="64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bb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419720"/>
            <a:ext cx="3276360" cy="642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precha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5715000"/>
            <a:ext cx="1905120" cy="64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v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04920"/>
            <a:ext cx="2971800" cy="642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mr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2971800"/>
            <a:ext cx="2590560" cy="5814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궁서"/>
                <a:ea typeface="궁서"/>
              </a:rPr>
              <a:t>shillela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200400"/>
            <a:ext cx="1904760" cy="6426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i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876920"/>
            <a:ext cx="1905120" cy="642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m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04920"/>
            <a:ext cx="2057400" cy="6426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14600"/>
            <a:ext cx="1752480" cy="6426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2057400"/>
            <a:ext cx="3048120" cy="6426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na f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1:53:26Z</dcterms:created>
  <dc:creator>oem</dc:creator>
  <dc:description/>
  <dc:language>en-US</dc:language>
  <cp:lastModifiedBy>oem</cp:lastModifiedBy>
  <dcterms:modified xsi:type="dcterms:W3CDTF">2001-01-06T21:37:50Z</dcterms:modified>
  <cp:revision>7</cp:revision>
  <dc:subject/>
  <dc:title>슬라이드 제목 없음</dc:title>
</cp:coreProperties>
</file>