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98A-FF42-4358-AF18-2D07FBF8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CD3-3A50-4875-BD3F-884E1D6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E8A-12EA-4FEF-A8C9-9985E527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35F-796A-4510-9865-05D79C1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CD1-58DD-40E5-99A9-0F9D566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F5A-589C-4358-8FBD-F1EE62A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BF8-41E7-44C8-817E-D9D153A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A95-EF69-4796-B931-57FBBD2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BE2-6547-459E-B000-5EC1018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986-AEEB-4D78-A8B1-A518DC8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C27-0553-4219-817E-383EB5E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710-CDA5-483F-A23C-8149F20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CC3F-DC75-4409-83D9-B3F63021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981080"/>
            <a:ext cx="6858000" cy="76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ATCH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380880"/>
            <a:ext cx="52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447920"/>
            <a:ext cx="3962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 three-leaf cl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362320"/>
            <a:ext cx="36576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A wooden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29000"/>
            <a:ext cx="36576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Tiny little 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343400"/>
            <a:ext cx="36576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Irish st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562720"/>
            <a:ext cx="36576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A very fast 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4479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n Irish J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28600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sham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leprecha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96252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shillela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4876920"/>
            <a:ext cx="327636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potatoes, onions, la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3" idx="3"/>
            <a:endCxn id="49" idx="1"/>
          </p:cNvCxnSpPr>
          <p:nvPr/>
        </p:nvCxnSpPr>
        <p:spPr>
          <a:xfrm>
            <a:off x="4343040" y="173844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3"/>
            <a:endCxn id="51" idx="1"/>
          </p:cNvCxnSpPr>
          <p:nvPr/>
        </p:nvCxnSpPr>
        <p:spPr>
          <a:xfrm>
            <a:off x="4114800" y="2652480"/>
            <a:ext cx="91512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0" idx="1"/>
          </p:cNvCxnSpPr>
          <p:nvPr/>
        </p:nvCxnSpPr>
        <p:spPr>
          <a:xfrm flipV="1">
            <a:off x="4114800" y="341388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6" idx="3"/>
            <a:endCxn id="52" idx="1"/>
          </p:cNvCxnSpPr>
          <p:nvPr/>
        </p:nvCxnSpPr>
        <p:spPr>
          <a:xfrm>
            <a:off x="4114440" y="4633920"/>
            <a:ext cx="7628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7" idx="3"/>
            <a:endCxn id="48" idx="1"/>
          </p:cNvCxnSpPr>
          <p:nvPr/>
        </p:nvCxnSpPr>
        <p:spPr>
          <a:xfrm flipV="1">
            <a:off x="4114800" y="1738080"/>
            <a:ext cx="991440" cy="411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2:08:11Z</dcterms:created>
  <dc:creator>oem</dc:creator>
  <dc:description/>
  <dc:language>en-US</dc:language>
  <cp:lastModifiedBy>oem</cp:lastModifiedBy>
  <dcterms:modified xsi:type="dcterms:W3CDTF">2001-01-04T11:00:23Z</dcterms:modified>
  <cp:revision>2</cp:revision>
  <dc:subject/>
  <dc:title>슬라이드 제목 없음</dc:title>
</cp:coreProperties>
</file>