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AF0-9A7B-4E3A-AA10-747C8BD0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00A-0FC1-4B22-B95C-C2F01559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58F-C46D-4D07-94BE-58508D2D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CAF0-4A81-4F0F-B0FC-5F473105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DF5-F51A-4981-AC7E-18967EC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C26-55C0-44BB-8CCD-9EE4B6B5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FB8-989C-4DDE-AC09-EF0601A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C40-AA74-4BFF-ADCD-1FC9B67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7F0-0DED-4A4B-A777-793A0B8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809-8C2B-4986-BEB1-FB3E7958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03F-4F1D-47ED-B766-5843B8F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D85-B5A3-4197-BC3F-8EB302C0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486E-163B-414E-AFC0-FA995FD80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최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성 경 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최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정 지 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이 지 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배 수 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한 석 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최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곽 혜 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정 사 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이 창 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배 은 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박 범 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배 상 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최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이 정 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김 용 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김 미 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28600"/>
            <a:ext cx="8534160" cy="2057400"/>
          </a:xfrm>
          <a:custGeom>
            <a:avLst/>
            <a:gdLst>
              <a:gd name="textAreaLeft" fmla="*/ 1066680 w 8534160"/>
              <a:gd name="textAreaRight" fmla="*/ 7467480 w 853416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전 수 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200400"/>
            <a:ext cx="8458200" cy="2057400"/>
          </a:xfrm>
          <a:custGeom>
            <a:avLst/>
            <a:gdLst>
              <a:gd name="textAreaLeft" fmla="*/ 1057320 w 8458200"/>
              <a:gd name="textAreaRight" fmla="*/ 7401240 w 8458200"/>
              <a:gd name="textAreaTop" fmla="*/ 14004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498571"/>
                <a:lnTo>
                  <a:pt x="2700" y="1471"/>
                </a:lnTo>
                <a:arcTo wR="21600" hR="20153" stAng="-6806385" swAng="2812770"/>
                <a:lnTo>
                  <a:pt x="18900" y="4171"/>
                </a:lnTo>
                <a:arcTo wR="21600" hR="20153" stAng="-3993615" swAng="498571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976834"/>
                <a:lnTo>
                  <a:pt x="16200" y="16840"/>
                </a:lnTo>
                <a:arcTo wR="21600" hR="20153" stAng="-4471878" swAng="-1856244"/>
                <a:lnTo>
                  <a:pt x="5400" y="19540"/>
                </a:lnTo>
                <a:arcTo wR="21600" hR="20153" stAng="-6328122" swAng="-976834"/>
                <a:lnTo>
                  <a:pt x="2700" y="12271"/>
                </a:lnTo>
                <a:close/>
              </a:path>
              <a:path fill="none" w="21600" h="21600">
                <a:moveTo>
                  <a:pt x="5400" y="16840"/>
                </a:moveTo>
                <a:arcTo wR="21600" hR="20153" stAng="-6328122" swAng="-478263"/>
                <a:lnTo>
                  <a:pt x="5400" y="19540"/>
                </a:lnTo>
              </a:path>
              <a:path fill="none" w="21600" h="21600">
                <a:moveTo>
                  <a:pt x="16200" y="16840"/>
                </a:moveTo>
                <a:arcTo wR="21600" hR="20153" stAng="-4471878" swAng="478263"/>
                <a:lnTo>
                  <a:pt x="16200" y="19540"/>
                </a:lnTo>
              </a:path>
              <a:path fill="none" w="21600" h="21600">
                <a:moveTo>
                  <a:pt x="2700" y="4171"/>
                </a:moveTo>
                <a:lnTo>
                  <a:pt x="2700" y="17671"/>
                </a:lnTo>
              </a:path>
              <a:path fill="none" w="21600" h="21600">
                <a:moveTo>
                  <a:pt x="18900" y="4171"/>
                </a:moveTo>
                <a:lnTo>
                  <a:pt x="18900" y="17671"/>
                </a:lnTo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교내 영어 경시 대회 우수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학년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반 이 정 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6:51:42Z</dcterms:created>
  <dc:creator>ppp</dc:creator>
  <dc:description/>
  <dc:language>en-US</dc:language>
  <cp:lastModifiedBy>ppp</cp:lastModifiedBy>
  <dcterms:modified xsi:type="dcterms:W3CDTF">2000-12-13T17:04:18Z</dcterms:modified>
  <cp:revision>2</cp:revision>
  <dc:subject/>
  <dc:title>슬라이드 제목 없음</dc:title>
</cp:coreProperties>
</file>